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F69-58AB-44CD-AF18-641BD279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CDA-5BAE-4E23-996E-A0AAF7B2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2EE-287C-4922-A2E0-7BA78D3D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F6D-00FF-471E-A2B6-A07D22F96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0D4-4881-40C9-A105-3F947093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472-417B-455B-A26E-17CB8437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663-7B3B-4CF4-ABBA-8D0EA20E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6AB-AAB4-4798-A697-0C6BA4AB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FBD-D4C1-4904-901C-E87C1F55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738-06B2-4C05-8735-29D8AF4A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4DC-3D46-4BE7-A21A-9369B85B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5FD-198C-4DB9-B4D4-D991549A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403E-E288-40FF-961B-0AE7B519385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Koje tvari provode električnu struj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je strujni krug otvoren, a kada zatvor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kroz isključenu sklopku struja ne protječ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nam to govori o zraku između kontakata u sklopki?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oje će od ovih tvari provoditi električnu struj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drvo,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guma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staklo,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destilirana voda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zrak,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bakar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slana voda,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grafit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željezo,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plastik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ili aluminij?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ako bismo pokusom provjerili koje od navedenih tvari provode struju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crtaj shemu strujnog kruga kojim bismo to mogli ispita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2627280" y="3141720"/>
            <a:ext cx="38908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2" descr="SnapShot(188).jpg"/>
          <p:cNvPicPr/>
          <p:nvPr/>
        </p:nvPicPr>
        <p:blipFill>
          <a:blip r:embed="rId1"/>
          <a:srcRect l="7874" t="0" r="0" b="0"/>
          <a:stretch/>
        </p:blipFill>
        <p:spPr>
          <a:xfrm>
            <a:off x="826920" y="1413000"/>
            <a:ext cx="758196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koje tvari provode električnu stru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uju ne provo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uju provo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 obzirom na to provode li električnu struju ili ne, tvari su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lektrični vodiči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l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trujni izolato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lektrični vodiči su: metali, grafit, voda, vodene otopine soli, kiselina i luži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olatori su: plastika, guma, ulje, staklo, keramika, suhi papir, dr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što električarski alat ima plastične ručke?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su žice u električnim kabelima od meta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ko je zrak izolator, kako iskra može preskakati sa strujnog voda na strujni vod tijekom olu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li voda iz slavine vodič ili izolat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li ljudsko tijelo vodič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04:41:44Z</dcterms:created>
  <dc:creator>Zdenka</dc:creator>
  <dc:description/>
  <dc:language>en-US</dc:language>
  <cp:lastModifiedBy>Zdenko</cp:lastModifiedBy>
  <dcterms:modified xsi:type="dcterms:W3CDTF">2014-07-18T09:21:32Z</dcterms:modified>
  <cp:revision>8</cp:revision>
  <dc:subject/>
  <dc:title>PowerPoint Presentation</dc:title>
</cp:coreProperties>
</file>